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5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38C7-AED9-47E9-97C7-B8D202CE5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6A44-0266-45FE-B11E-3E1D0A52B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highlights the differences between 2Wire decode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ith all engineering techniques, that which brings great advantages has disadvantages in other areas.  This section allows the student to distinguish between the types and evaluate which will be best for a particular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38EF-D079-4D83-8398-C03A747CF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 on an AC solen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 all AC solenoids work well with DC.  Less current is needed than with AC </a:t>
            </a:r>
            <a:r>
              <a:rPr b="0" lang="en-US" sz="1200" spc="-1" strike="noStrike">
                <a:solidFill>
                  <a:srgbClr val="000000"/>
                </a:solidFill>
                <a:latin typeface="Arial"/>
              </a:rPr>
              <a:t>because AC attractive force varies during the cycle and falls to zero twice each cycle as the AC volts go through zero on their way to the opposite po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Y TIP</a:t>
            </a:r>
            <a:r>
              <a:rPr b="0" lang="en-GB" sz="1200" spc="-1" strike="noStrike">
                <a:solidFill>
                  <a:srgbClr val="000000"/>
                </a:solidFill>
                <a:latin typeface="Arial"/>
              </a:rPr>
              <a:t>.  Finding which valve is operated with which solen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the battery out of your electric drill.  Touch the solenoid leads (disconnected from the decoder!) to the battery terminals.  This will operate the solenoid and you can see where the water is com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DACF-5F67-46AE-9F05-01B674BD6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significantly better distance with the ESP-LXD compared with the Sap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examples here have performance that are typical of thei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pure AC is to be considered, the solenoid type must be carefully chosen. When read with ‘WireMaxRunsPureACnotes.pdf’, the spreadsheet ‘WireMaxRunsPureAC1.xls’ will allow the student to evaluate the use of a particular solen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DC on the solenoid system is used, this dependence on the solenoid type is greatly reduced and the user can be assured of much greater distances or more solenoids on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C20D-2340-43F4-BC49-C5049BAD2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distribute MaxWireRunsPureAC1.xls and MaxWireRunsPureACNotes.do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1D69-8535-4090-B3F3-C7194742B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crease in project costs with DC on the solenoid must be recognized.  This is quantified in the spreadsheet ‘LandscapeProjectCostingExample.xls’ and its notes ‘LandscapeProjectCostingExample1-3.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ame spreadsheet allows the student to compare the differential project costs between multi-wire, DC on the solenoid and pure AC decoder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CF83-B6F3-4EE7-A854-6BA64F5F6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ystem is different from the others we have talke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th considering for very large PC driven systems with many decoders needed on at the same time.  Primarily aimed at the golf, ‘wall-to-wall’ watering marke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A47E-D5C6-461C-9461-24F2D427F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are looking at a new project that with multi-wire, would require satellites, then a DC on solenoid system will be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are looking to retrofit a satellite system to 2wire and want to use the old wiring and satellite positions, a Pure AC system will give less tr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81767-06EF-4965-BECD-E9CF0B6F8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6788-8B18-4DE7-B98B-B5A2E7B9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52729-538B-49EC-A90C-F7C285A30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8103B-0834-45BC-8590-B4844F332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8D44C-E0A5-4FC7-A862-47B2B0C474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BCB06-4686-4C96-9C9F-BE993446F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6144B7-BFA5-407C-A3EE-D8FC786A6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257C2-AFE4-43C3-9E16-D9C356C987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80DAD-AE0D-4E75-98DB-75CE8C375B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76A739-CB7C-4BB1-A670-45EB5D90DA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5B0B66-F2F1-4960-BF50-4542A8F85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77E1FC-D642-4D95-BF65-4FEF6CD2F1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6A281-6950-4C44-B38C-D2F204457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16DA49-CCE2-4CBF-9714-5C21523341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7F78BC-2214-43A5-8DAA-6544D3B580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CF91DF-F1A0-4EEF-BA47-E06E965D7C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B6F6E4-BFA4-4ADE-BBC9-816AE6497D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C04D7E-319D-41AD-8448-EFA45644C2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DF2B88-8AE7-4FB2-A9AC-A8D4B39E91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A1804B-B490-47B8-AA09-E60600C570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2B2C78-07D7-4BA2-861C-54B9509F4F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0AFBA1-45BA-46A8-B173-980434B124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EC4DFA-9E3A-4CF9-B590-553A12EB5A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F4A2A-3A28-420C-8164-D88F07C05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B35EED-0957-4FDD-9A18-3E00A7F37E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49E8CF-B786-4680-9494-65E5BD11CF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BCE252-EB8C-4FD0-9B6A-A181C39D67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AE2637-1665-4D85-BBD6-4E63BC5516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FB39E6-6AD1-4E80-9499-71C702533A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0D7ED2-3F00-4EB9-B720-6ED20279D6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7B07D9-201D-4776-BF22-E874E67C58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31E1A3-98E4-4A06-ADBB-A240691A43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89AA5B-B403-4470-AEF2-506274F492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62E27E-A939-403D-905F-9C1863F815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40C8E-0250-46AB-8A8F-3CEE935A9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F4A02A-192C-4128-A61B-DB6E1FF3BD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BFD030-CF3A-47DB-90F7-F73D390531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2C9313-355B-4613-B72B-343DDCDB86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1118C7-E121-4B5F-9568-6E4071CC60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4162C9-40D0-4676-B039-D319B313A4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86C85A-E907-49AA-8256-996A9FB24A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2F5F3D-B986-4E32-8D6A-A80BF4B026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AEF3D2-655B-47EE-9ADF-8952EDCF27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42B825-046B-45BD-A9E5-4617BA206F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692435-1B4A-48C1-945C-61BABAFD5A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30689-1477-4876-9F09-86BC747CA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F84FF5-1021-4CDA-867D-7A94AC0D53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D6AF03-0F51-4603-B1E6-33C991C4B1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945B54-3D23-4732-87EB-D3D2A18D7C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01A4D5-FFFB-4C6E-AA7D-9EAEC2399D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C8462A-F6BE-474C-BAAD-DF07BE232C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28360-2548-4F5B-81AF-5C3023E5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8B2FB-33ED-4D2C-9B93-055B69B64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1D2EE-7FCE-47F0-9AFE-001740027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8900-D8D4-4C93-9BCA-336850F4B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0EE2B-F8FA-4218-AB28-19C2B26FF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0642-D318-45FE-82AC-46029EAD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40F9B-534A-480F-97B6-E536BBE99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7DCF-29A6-4827-883F-4FBD9149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C5C0C-0DE6-4E4C-83CC-0ECEA13DC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928F6-4856-4CB6-B7C0-72CD626E5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24384-913C-403D-A93A-0273FD6FE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08E03-5A54-45A3-8867-A37E7B936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D863D-5F70-4F49-BC08-3137D73BF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E0F6D-AE48-4908-8BA1-FB0CD1D02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7BA65-E9FD-46F2-8DED-665BDB607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9E8A1-CB55-4F94-9967-EAFB49918A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12D6-FB7F-44F6-9D24-DE2F0BA0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CF752-8537-4795-B6EA-5F088CC86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E21FB-D880-44B0-B585-01D7EDD8F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50F21-7101-4D09-B336-9A0BA0B7E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ACBF7-A207-4E20-8B31-B0107B758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AAC2F-C810-47F0-B329-650A56D76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463BE-6BEA-4235-81CF-12B9A4F30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FF2DCB-F880-44F7-B2A7-4F0A076BC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824CBE-D8C2-4D1F-8B8B-17EE7CF32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88F8B-ED69-41F0-8402-4ECB18819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5DBAE-299C-4C46-AD39-F2D3C3AB8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C7C86-9159-4D6F-BA44-3306B183F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997BD-9A3D-437E-9C10-1CB673FD9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97D3E-8997-482B-B446-E1C29D554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B8931-54EF-4308-B3D9-D0A29AEEF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7C451-CD2B-4E5F-AB66-56E99AD2D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E2F73-FD05-4F91-AE0C-AACC89ED4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90E3-8066-43BD-92B0-656C6DBFD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55287-4636-4030-A754-CDC732C47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99D32-B350-4A14-85AA-7127A65C83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FD3543-CBA6-47A5-A136-9A35D8BE9A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F982EA-CBFC-48D8-A3C0-3D1D13A67B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F061-A030-473B-8C60-15A34F728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008B2-E63B-43F0-8958-72EC64171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F555E-0EBF-4ECF-A4BC-BD01F8A01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2C366-C962-4B73-9307-BBAF77892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16FBB-18CE-43C2-A560-C736EEA7A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A19B3-C00A-4AB8-B0D3-D598B23EB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79272-018E-4E40-A3F9-4825730FE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FBB31-F170-4AA1-AFBD-4DC71E6EF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78EF6-0145-459D-AE31-9C072D3C3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69B85-1ECA-4DEC-A9DE-E18B5ECF9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98287A-C3FF-4477-8ADA-3A04A4D433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5126-EE63-4C3C-AC91-62E61B17B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B838F-B97A-4E1A-B646-7D09B5AE4D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431876-07E9-4FED-ACF8-C5A403369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D570C-BFBE-4959-9AFD-C21380E25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B1414-1D92-49F7-9258-198A39591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9EB0A-173C-4EDC-87C0-898464BBD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14B31-EA08-49E4-B470-144E83C92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621E31-D668-4E9F-ADAD-75DD5028B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800DA-FE26-43D3-B9EE-015BBF6E9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DC673-C03A-48D2-96E5-E718D252F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F447E-CEC4-4E24-AF04-EAB0C4B8E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B2CF-B59F-4779-9DFA-AC3F1BEB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F7B002-B1E8-4B10-B070-8F7ADCD8F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64CF1F-81F4-40C1-9D65-8A4C2A1442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E376F8-DB35-4063-A808-8BA07B54F6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74BDA1-A2A1-494E-BAF0-942B930394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5184AB-5957-4AD4-B3DA-95AA8B022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6E81C-F30E-4F10-A43C-5C8823D40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B8FB5-0F21-441A-B0D7-C665784B0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A45039-94D0-480A-96DA-C059F220F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7D992-5270-4BC7-BB18-EA815AED6A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9B8A4-3570-42CF-8868-F03FFA64B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CC40-2D88-48B4-AE06-0CDF72E6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86D79-F05E-49F9-8B87-A91765140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F2A75-F4F1-41B8-96AE-2EAFBE0B5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A2D65-047F-4A12-B34A-17E939E2C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73C0A1-B168-42E4-B829-446A7108D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D3A34E-BD54-4D42-A927-BFDD44CE42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10F864-6838-46C6-92A2-8B5D68A11A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44BD9-21A6-4006-8852-0CA0AB6A7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F6532-44DE-44F0-A6C9-3E3E45C654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C3B2E5-14FD-4686-B558-673E6CCE9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06B04E-B3A6-4D72-9710-49FB786A5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E68B-0F2E-40A1-8A6C-C50103C1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914592-2EE6-4275-8C5B-95A30E02B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1B9BB-C050-45FE-A968-EC1F3E4B2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115BD-54AD-4106-9007-B7ED331D2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8CA54-C75C-4061-94FA-701144331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530C31-2E93-49C3-9AA0-24E356154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78975-6F1C-45B6-9F73-C0D0AC448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3F869A-BA1A-440B-BBC7-E08D50E274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B7B43-FA75-4747-A2F0-B91C557313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2C17C4-71B2-46B5-9C86-183A7CF0F0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F03E55-25F2-475F-A20B-25997D3192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F90E-A55D-47C3-BD2A-5BA5B796508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C103-A04E-445A-991D-A65623FCA7B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CF4D-16D3-42E2-B945-272D26CC1AE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8CA3-9738-4FC0-BF7A-D2B08DFE32B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3FC3-C7A1-4ED8-98B5-C8803D133EA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26C-2198-4172-A122-1AE74A50C91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1B67-587C-4CAB-8D3A-C60267B8762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D5E8-9DFA-4C93-9207-324664DD13F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FACD-EE42-4A83-8893-C8F997290B5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D386-C9C7-4E1C-BF18-60F922B5FE9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0B4A-C23C-4DE4-B68C-844F931F9E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8F7C-9DDB-43EF-A0DF-C40C2AB35F9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00b0f0"/>
                </a:solidFill>
                <a:latin typeface="Calibri Light"/>
                <a:ea typeface="Calibri Light"/>
              </a:rPr>
              <a:t>2Wire Decoder Types</a:t>
            </a:r>
            <a:br>
              <a:rPr sz="4600"/>
            </a:br>
            <a:r>
              <a:rPr b="1" lang="en-GB" sz="4600" spc="-1" strike="noStrike">
                <a:solidFill>
                  <a:srgbClr val="00b0f0"/>
                </a:solidFill>
                <a:latin typeface="Calibri Light"/>
                <a:ea typeface="Calibri Light"/>
              </a:rPr>
              <a:t>DC vs. AC</a:t>
            </a:r>
            <a:endParaRPr b="0" lang="en-US" sz="4600" spc="-1" strike="noStrike">
              <a:solidFill>
                <a:srgbClr val="006633"/>
              </a:solidFill>
              <a:latin typeface="Garamond"/>
            </a:endParaRPr>
          </a:p>
        </p:txBody>
      </p:sp>
      <p:sp>
        <p:nvSpPr>
          <p:cNvPr id="504" name="PlaceHolder 2"/>
          <p:cNvSpPr>
            <a:spLocks noGrp="1"/>
          </p:cNvSpPr>
          <p:nvPr>
            <p:ph type="subTitle"/>
          </p:nvPr>
        </p:nvSpPr>
        <p:spPr>
          <a:xfrm>
            <a:off x="1449000" y="4220640"/>
            <a:ext cx="655308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Light"/>
                <a:ea typeface="Calibri Light"/>
              </a:rPr>
              <a:t>By Tony Ware B.Sc.</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ea typeface="Calibri Light"/>
              </a:rPr>
              <a:t>2-Wire Systems Specialis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ea typeface="Calibri Light"/>
              </a:rPr>
              <a:t>Tonick Watering; a division  of Aquamonix Pty Ltd </a:t>
            </a:r>
            <a:endParaRPr b="0" lang="en-US" sz="2000" spc="-1" strike="noStrike">
              <a:solidFill>
                <a:srgbClr val="000000"/>
              </a:solidFill>
              <a:latin typeface="Arial"/>
            </a:endParaRPr>
          </a:p>
        </p:txBody>
      </p:sp>
      <p:pic>
        <p:nvPicPr>
          <p:cNvPr id="505"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277560"/>
            <a:ext cx="8218440" cy="1206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b0f0"/>
                </a:solidFill>
                <a:latin typeface="Calibri Light"/>
                <a:ea typeface="Calibri Light"/>
              </a:rPr>
              <a:t>Solenoid Power Reduction</a:t>
            </a:r>
            <a:br>
              <a:rPr sz="3800"/>
            </a:br>
            <a:r>
              <a:rPr b="1" lang="en-US" sz="2800" spc="-1" strike="noStrike">
                <a:solidFill>
                  <a:srgbClr val="00b0f0"/>
                </a:solidFill>
                <a:latin typeface="Calibri Light"/>
                <a:ea typeface="Calibri Light"/>
              </a:rPr>
              <a:t>The key to getting distance and many on together</a:t>
            </a:r>
            <a:br>
              <a:rPr sz="3800"/>
            </a:br>
            <a:endParaRPr b="0" lang="en-US" sz="2800" spc="-1" strike="noStrike">
              <a:solidFill>
                <a:srgbClr val="006633"/>
              </a:solidFill>
              <a:latin typeface="Garamond"/>
            </a:endParaRPr>
          </a:p>
        </p:txBody>
      </p:sp>
      <p:sp>
        <p:nvSpPr>
          <p:cNvPr id="507" name="PlaceHolder 2"/>
          <p:cNvSpPr>
            <a:spLocks noGrp="1"/>
          </p:cNvSpPr>
          <p:nvPr>
            <p:ph/>
          </p:nvPr>
        </p:nvSpPr>
        <p:spPr>
          <a:xfrm>
            <a:off x="395280" y="1915920"/>
            <a:ext cx="8229600" cy="388908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Light"/>
                <a:ea typeface="Calibri Light"/>
              </a:rPr>
              <a:t>Remember the fridge door?  A good pull is required to part the magnet in the fridge from the one in the door when they are close together.  Once they are pulled apart, even a little way, the force decreases dramatically.</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Light"/>
                <a:ea typeface="Calibri Light"/>
              </a:rPr>
              <a:t> </a:t>
            </a:r>
            <a:r>
              <a:rPr b="0" lang="en-US" sz="1700" spc="-1" strike="noStrike">
                <a:solidFill>
                  <a:srgbClr val="000000"/>
                </a:solidFill>
                <a:latin typeface="Calibri Light"/>
                <a:ea typeface="Calibri Light"/>
              </a:rPr>
              <a:t>If DC is applied to pull the solenoid plunger, because the force is much greater once it is fully retracted, the amount of DC can be reduced to quite small values before the spring overcomes the attraction and pulls the plunger out again.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Light"/>
                <a:ea typeface="Calibri Light"/>
              </a:rPr>
              <a:t>This is very useful if you want lots of solenoids energized on the same wire, or long distances, because if the holding power is reduced there is more to go round for others to be turned on.  Note that full power is required to start the pull, it can only be reduced once the solenoid plunger is fully pulled in.</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Light"/>
                <a:ea typeface="Calibri Light"/>
              </a:rPr>
              <a:t>This system does not work with AC on the solenoid because the attractive force varies during the cycle and falls to zero twice each cycle as the AC volts go through zero on their way to the opposite polarity.</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Light"/>
                <a:ea typeface="Calibri Light"/>
              </a:rPr>
              <a:t>NOTE:</a:t>
            </a:r>
            <a:r>
              <a:rPr b="0" lang="en-GB" sz="1700" spc="-1" strike="noStrike">
                <a:solidFill>
                  <a:srgbClr val="000000"/>
                </a:solidFill>
                <a:latin typeface="Calibri Light"/>
                <a:ea typeface="Calibri Light"/>
              </a:rPr>
              <a:t>  Even if the system uses DC on the solenoid, the main 2Wire path is always AC in some form.</a:t>
            </a:r>
            <a:endParaRPr b="0" lang="en-US" sz="1700" spc="-1" strike="noStrike">
              <a:solidFill>
                <a:srgbClr val="000000"/>
              </a:solidFill>
              <a:latin typeface="Arial"/>
            </a:endParaRPr>
          </a:p>
        </p:txBody>
      </p:sp>
      <p:pic>
        <p:nvPicPr>
          <p:cNvPr id="508"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DC on the solenoid.</a:t>
            </a:r>
            <a:br>
              <a:rPr sz="3800"/>
            </a:br>
            <a:r>
              <a:rPr b="1" lang="en-GB" sz="3800" spc="-1" strike="noStrike">
                <a:solidFill>
                  <a:srgbClr val="00b0f0"/>
                </a:solidFill>
                <a:latin typeface="Calibri Light"/>
                <a:ea typeface="Calibri Light"/>
              </a:rPr>
              <a:t>Engineering disadvantages</a:t>
            </a:r>
            <a:endParaRPr b="0" lang="en-US" sz="3800" spc="-1" strike="noStrike">
              <a:solidFill>
                <a:srgbClr val="006633"/>
              </a:solidFill>
              <a:latin typeface="Garamond"/>
            </a:endParaRPr>
          </a:p>
        </p:txBody>
      </p:sp>
      <p:sp>
        <p:nvSpPr>
          <p:cNvPr id="5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Light"/>
                <a:ea typeface="Calibri Light"/>
              </a:rPr>
              <a:t>Note however that the engineering advantage gained by this clever technique can bring its own problem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Light"/>
                <a:ea typeface="Calibri Light"/>
              </a:rPr>
              <a:t>DC on field wiring causes electrolytic destruction if exposed copper wires come into contact with wet soil.  Good cable and joint insulation is mandator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Light"/>
                <a:ea typeface="Calibri Light"/>
              </a:rPr>
              <a:t>The controller has to apply the full DC power for the correct amount of time to make sure the plunger is fully in before reducing the DC voltage.  Controllers which use this technique have to be ‘tuned’ to the make of solenoid fitte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Light"/>
                <a:ea typeface="Calibri Light"/>
              </a:rPr>
              <a:t>Because of potentially destructive electrolytic action caused by field cable leakage to the earth, controllers which employ this technique may refuse to irrigate if they detect leakage.  It must be located and rectified before watering can continue</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511"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Comparison of maximum wire length of Pure AC vs. DC on solenoid decoders</a:t>
            </a:r>
            <a:endParaRPr b="0" lang="en-US" sz="3800" spc="-1" strike="noStrike">
              <a:solidFill>
                <a:srgbClr val="006633"/>
              </a:solidFill>
              <a:latin typeface="Garamond"/>
            </a:endParaRPr>
          </a:p>
        </p:txBody>
      </p:sp>
      <p:graphicFrame>
        <p:nvGraphicFramePr>
          <p:cNvPr id="513" name=""/>
          <p:cNvGraphicFramePr/>
          <p:nvPr/>
        </p:nvGraphicFramePr>
        <p:xfrm>
          <a:off x="468360" y="2060640"/>
          <a:ext cx="8229600" cy="3828960"/>
        </p:xfrm>
        <a:graphic>
          <a:graphicData uri="http://schemas.openxmlformats.org/drawingml/2006/table">
            <a:tbl>
              <a:tblPr/>
              <a:tblGrid>
                <a:gridCol w="1371600"/>
                <a:gridCol w="1371600"/>
                <a:gridCol w="1371600"/>
                <a:gridCol w="1371600"/>
                <a:gridCol w="1371600"/>
                <a:gridCol w="1371600"/>
              </a:tblGrid>
              <a:tr h="7671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imum Wire leng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C on Solenoid vs. Pure AC System</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inal wire size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hms per 1000’ or Ohms per Km, per conduc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in Bird</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LXD,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C on solenoi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in Bird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LXD,</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C on solenoi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hill Sapie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e AC sys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hill Sapien, Pure AC system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x 8 stations on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x 8 stations on toge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x 4 stations on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x 4 stations on togeth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P</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mm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5 Ohms/K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K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0 K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K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2K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4 AW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8 Ohms/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5 mi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1 Mi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88 Mi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 Mil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All examples here using Rain Bird Solenoids.  Pure AC systems can go further with some other solenoid  type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LXD puts 10VAC with a 4.78VDC component on a held solenoid</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e AC distances calculated on 4 solenoids clustered together.  Better distances possible when distributed along path.</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14"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Maximum Cable Distance for </a:t>
            </a:r>
            <a:br>
              <a:rPr sz="3800"/>
            </a:br>
            <a:r>
              <a:rPr b="1" lang="en-GB" sz="3800" spc="-1" strike="noStrike">
                <a:solidFill>
                  <a:srgbClr val="00b0f0"/>
                </a:solidFill>
                <a:latin typeface="Calibri Light"/>
                <a:ea typeface="Calibri Light"/>
              </a:rPr>
              <a:t>Various Types</a:t>
            </a:r>
            <a:endParaRPr b="0" lang="en-US" sz="3800" spc="-1" strike="noStrike">
              <a:solidFill>
                <a:srgbClr val="006633"/>
              </a:solidFill>
              <a:latin typeface="Garamond"/>
            </a:endParaRPr>
          </a:p>
        </p:txBody>
      </p:sp>
      <p:sp>
        <p:nvSpPr>
          <p:cNvPr id="5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Light"/>
                <a:ea typeface="Calibri Light"/>
              </a:rPr>
              <a:t>DC on the solenoid ( or latching) is a very effective technique.  It is the only way to get a significant number of solenoids on together over a large distance.  </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Light"/>
                <a:ea typeface="Calibri Light"/>
              </a:rPr>
              <a:t>The distances obtainable depend on the number of solenoids on together, the cable size (AWG), the make of solenoids used and loop or branch cable routing.</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Light"/>
                <a:ea typeface="Calibri Light"/>
              </a:rPr>
              <a:t>Consult the manufacturer’s installation instructions for these figures.</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Light"/>
                <a:ea typeface="Calibri Light"/>
              </a:rPr>
              <a:t>Pure AC systems have much less obtainable distance than DC or latching.  The type of solenoid is also critical,  distances can be drastically different from one to another.</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Light"/>
                <a:ea typeface="Calibri Light"/>
              </a:rPr>
              <a:t>The spreadsheet MaxWireRunsPureAC.xls and the notes accompanying it can be used to determine maximum distances obtainable for Pure AC.  This spreadsheet is usable for all Pure AC types.</a:t>
            </a:r>
            <a:endParaRPr b="0" lang="en-US" sz="2000" spc="-1" strike="noStrike">
              <a:solidFill>
                <a:srgbClr val="000000"/>
              </a:solidFill>
              <a:latin typeface="Arial"/>
            </a:endParaRPr>
          </a:p>
        </p:txBody>
      </p:sp>
      <p:pic>
        <p:nvPicPr>
          <p:cNvPr id="517"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Identifying Pure AC and DC on the solenoid</a:t>
            </a:r>
            <a:endParaRPr b="0" lang="en-US" sz="3800" spc="-1" strike="noStrike">
              <a:solidFill>
                <a:srgbClr val="006633"/>
              </a:solidFill>
              <a:latin typeface="Garamond"/>
            </a:endParaRPr>
          </a:p>
        </p:txBody>
      </p:sp>
      <p:sp>
        <p:nvSpPr>
          <p:cNvPr id="5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A multi-wire system is Pure AC.</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If the decoder system manufacturer states that  more than 4 solenoids may active at a time, the system probably uses DC.</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DC on the solenoid ( or latching) is a very effective technique and in no way inferior to Pure AC.  It is the only way to get a significant number of solenoids on together over a large distance.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It does however preclude retrofit in most cas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DC on the Solenoid adds to the projects costs compared to Pure AC.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Light"/>
                <a:ea typeface="Calibri Light"/>
              </a:rPr>
              <a:t>Manufacturers usually do not explicitly state DC is used, instead they specify that new wire and top quality wire joiners must be used.  This ensures there will be no cable leakage to ground.</a:t>
            </a:r>
            <a:endParaRPr b="0" lang="en-US" sz="2100" spc="-1" strike="noStrike">
              <a:solidFill>
                <a:srgbClr val="000000"/>
              </a:solidFill>
              <a:latin typeface="Arial"/>
            </a:endParaRPr>
          </a:p>
        </p:txBody>
      </p:sp>
      <p:pic>
        <p:nvPicPr>
          <p:cNvPr id="520"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Toro TDC Decoder System with Latching Solenoids</a:t>
            </a:r>
            <a:endParaRPr b="0" lang="en-US" sz="3800" spc="-1" strike="noStrike">
              <a:solidFill>
                <a:srgbClr val="006633"/>
              </a:solidFill>
              <a:latin typeface="Garamond"/>
            </a:endParaRPr>
          </a:p>
        </p:txBody>
      </p:sp>
      <p:sp>
        <p:nvSpPr>
          <p:cNvPr id="5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The maximum allowable comm wire run from the Gateway to the furthest decoder using 2,5mm2 wire is 4,5km.</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The station decoder modules are available in 1-, 2-, and 4-station configuration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The decoder modules are connected</a:t>
            </a:r>
            <a:r>
              <a:rPr b="0" lang="en-GB" sz="1900" spc="-1" strike="noStrike">
                <a:solidFill>
                  <a:srgbClr val="000000"/>
                </a:solidFill>
                <a:latin typeface="Calibri Light"/>
                <a:ea typeface="Calibri Light"/>
              </a:rPr>
              <a:t> </a:t>
            </a:r>
            <a:r>
              <a:rPr b="0" lang="en-US" sz="1900" spc="-1" strike="noStrike">
                <a:solidFill>
                  <a:srgbClr val="000000"/>
                </a:solidFill>
                <a:latin typeface="Calibri Light"/>
                <a:ea typeface="Calibri Light"/>
              </a:rPr>
              <a:t>to the Gateway via two-wire communication cabl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For PC-controlled systems, the maximum station capacity per output board is 800 station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The maximum number of decoders per wire path is 250, however these decoders may have 1, 2 or 4 station outputs, and no more than</a:t>
            </a:r>
            <a:r>
              <a:rPr b="0" lang="en-GB" sz="1900" spc="-1" strike="noStrike">
                <a:solidFill>
                  <a:srgbClr val="000000"/>
                </a:solidFill>
                <a:latin typeface="Calibri Light"/>
                <a:ea typeface="Calibri Light"/>
              </a:rPr>
              <a:t> </a:t>
            </a:r>
            <a:r>
              <a:rPr b="0" lang="en-US" sz="1900" spc="-1" strike="noStrike">
                <a:solidFill>
                  <a:srgbClr val="000000"/>
                </a:solidFill>
                <a:latin typeface="Calibri Light"/>
                <a:ea typeface="Calibri Light"/>
              </a:rPr>
              <a:t>500 decoders are run from any one output board.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A maximum of 1000 decoders can operated by a Gateway when</a:t>
            </a:r>
            <a:r>
              <a:rPr b="0" lang="en-GB" sz="1900" spc="-1" strike="noStrike">
                <a:solidFill>
                  <a:srgbClr val="000000"/>
                </a:solidFill>
                <a:latin typeface="Calibri Light"/>
                <a:ea typeface="Calibri Light"/>
              </a:rPr>
              <a:t>  </a:t>
            </a:r>
            <a:r>
              <a:rPr b="0" lang="en-US" sz="1900" spc="-1" strike="noStrike">
                <a:solidFill>
                  <a:srgbClr val="000000"/>
                </a:solidFill>
                <a:latin typeface="Calibri Light"/>
                <a:ea typeface="Calibri Light"/>
              </a:rPr>
              <a:t>equipped with two output boards and four communication cable wire path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Light"/>
                <a:ea typeface="Calibri Light"/>
              </a:rPr>
              <a:t>This allows for the capacity of 1600</a:t>
            </a:r>
            <a:r>
              <a:rPr b="0" lang="en-GB" sz="1900" spc="-1" strike="noStrike">
                <a:solidFill>
                  <a:srgbClr val="000000"/>
                </a:solidFill>
                <a:latin typeface="Calibri Light"/>
                <a:ea typeface="Calibri Light"/>
              </a:rPr>
              <a:t> </a:t>
            </a:r>
            <a:r>
              <a:rPr b="0" lang="en-US" sz="1900" spc="-1" strike="noStrike">
                <a:solidFill>
                  <a:srgbClr val="000000"/>
                </a:solidFill>
                <a:latin typeface="Calibri Light"/>
                <a:ea typeface="Calibri Light"/>
              </a:rPr>
              <a:t>stations, however it should be achieved over four separate two-wire paths and would require the use of multi-station</a:t>
            </a:r>
            <a:r>
              <a:rPr b="0" lang="en-GB" sz="1900" spc="-1" strike="noStrike">
                <a:solidFill>
                  <a:srgbClr val="000000"/>
                </a:solidFill>
                <a:latin typeface="Calibri Light"/>
                <a:ea typeface="Calibri Light"/>
              </a:rPr>
              <a:t> </a:t>
            </a:r>
            <a:r>
              <a:rPr b="0" lang="en-US" sz="1900" spc="-1" strike="noStrike">
                <a:solidFill>
                  <a:srgbClr val="000000"/>
                </a:solidFill>
                <a:latin typeface="Calibri Light"/>
                <a:ea typeface="Calibri Light"/>
              </a:rPr>
              <a:t>decode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3"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Toro TDC Latching Solenoid Decoder System</a:t>
            </a:r>
            <a:endParaRPr b="0" lang="en-US" sz="3800" spc="-1" strike="noStrike">
              <a:solidFill>
                <a:srgbClr val="006633"/>
              </a:solidFill>
              <a:latin typeface="Garamond"/>
            </a:endParaRPr>
          </a:p>
        </p:txBody>
      </p:sp>
      <p:pic>
        <p:nvPicPr>
          <p:cNvPr id="525" name="Picture 3" descr=""/>
          <p:cNvPicPr/>
          <p:nvPr/>
        </p:nvPicPr>
        <p:blipFill>
          <a:blip r:embed="rId1"/>
          <a:stretch/>
        </p:blipFill>
        <p:spPr>
          <a:xfrm>
            <a:off x="457200" y="1600200"/>
            <a:ext cx="8229600" cy="4530600"/>
          </a:xfrm>
          <a:prstGeom prst="rect">
            <a:avLst/>
          </a:prstGeom>
          <a:ln w="0">
            <a:noFill/>
          </a:ln>
        </p:spPr>
      </p:pic>
      <p:pic>
        <p:nvPicPr>
          <p:cNvPr id="526" name="Picture 4" descr=""/>
          <p:cNvPicPr/>
          <p:nvPr/>
        </p:nvPicPr>
        <p:blipFill>
          <a:blip r:embed="rId2"/>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Light"/>
                <a:ea typeface="Calibri Light"/>
              </a:rPr>
              <a:t>DC or Pure AC? </a:t>
            </a:r>
            <a:br>
              <a:rPr sz="3800"/>
            </a:br>
            <a:r>
              <a:rPr b="1" lang="en-GB" sz="3800" spc="-1" strike="noStrike">
                <a:solidFill>
                  <a:srgbClr val="00b0f0"/>
                </a:solidFill>
                <a:latin typeface="Calibri Light"/>
                <a:ea typeface="Calibri Light"/>
              </a:rPr>
              <a:t>Which to choose.</a:t>
            </a:r>
            <a:endParaRPr b="0" lang="en-US" sz="3800" spc="-1" strike="noStrike">
              <a:solidFill>
                <a:srgbClr val="006633"/>
              </a:solidFill>
              <a:latin typeface="Garamond"/>
            </a:endParaRPr>
          </a:p>
        </p:txBody>
      </p:sp>
      <p:sp>
        <p:nvSpPr>
          <p:cNvPr id="5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Light"/>
                <a:ea typeface="Calibri Light"/>
              </a:rPr>
              <a:t>Long distances and/or many on together?  Must use DC on solenoid or latching solenoid TD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Light"/>
                <a:ea typeface="Calibri Light"/>
              </a:rPr>
              <a:t>Very long distances, where wire costs dominate? Must use DC on solenoid or latching solenoid TD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Light"/>
                <a:ea typeface="Calibri Light"/>
              </a:rPr>
              <a:t>Only 1 - 4 stations on together and medium distances?  DC or AC will do*.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Light"/>
                <a:ea typeface="Calibri Light"/>
              </a:rPr>
              <a:t>Re-use old wiring; retrofit? Best use Pure A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Light"/>
                <a:ea typeface="Calibri Light"/>
              </a:rPr>
              <a:t>Hybrid system:  Re-use two existing valve wires as the 2 wire path to expand stations without having to trench back to the controller?  Best use Pure AC.</a:t>
            </a:r>
            <a:endParaRPr b="0" lang="en-US" sz="24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Light"/>
                <a:ea typeface="Calibri Light"/>
              </a:rPr>
              <a:t>*Pure AC usually results in lower project cost, if it meets the performance requirements.</a:t>
            </a:r>
            <a:endParaRPr b="0" lang="en-US" sz="17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4" descr=""/>
          <p:cNvPicPr/>
          <p:nvPr/>
        </p:nvPicPr>
        <p:blipFill>
          <a:blip r:embed="rId1"/>
          <a:stretch/>
        </p:blipFill>
        <p:spPr>
          <a:xfrm>
            <a:off x="5854680" y="6000840"/>
            <a:ext cx="3289320" cy="66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11:33:11Z</dcterms:created>
  <dc:creator>TonyLaptop</dc:creator>
  <dc:description/>
  <dc:language>en-US</dc:language>
  <cp:lastModifiedBy>Don May</cp:lastModifiedBy>
  <dcterms:modified xsi:type="dcterms:W3CDTF">2019-05-18T13:40:14Z</dcterms:modified>
  <cp:revision>71</cp:revision>
  <dc:subject/>
  <dc:title>Slide 1</dc:title>
</cp:coreProperties>
</file>